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63F-D611-46D6-812B-50319A43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EB4-61A8-4C7C-92D3-54DD01E3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AC6-442F-4BE4-9A34-2898AB52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44B-AF18-4FC3-89CF-7DA71CC0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6F3-B9E9-41C1-9650-EDC53078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9D7-1919-4827-9AB7-0CA3963D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F7D-D4BD-48F7-8F34-474E63D6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DDB-BBAB-4AAC-A975-18AEA237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619-8176-43F5-B3B8-A2341C93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21E-CA33-4A50-AE86-7EA2949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E63-0F6D-413E-9795-2F284D5E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74D-E081-4428-B76E-53ED18D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92A63-5ACA-48C9-B3B9-8408D861A8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3AEFE-2F5B-441D-8EDE-C361F57BE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3520"/>
            <a:ext cx="77724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king Advisors for GEO Applications Proposals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king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040" y="966600"/>
            <a:ext cx="84232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rence Friedl came to the Federation seeking support for his pr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articular, he was soliciting interest in a GEO progra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Earth Observations in Decision Support Projects". (see next slide)  The call went out and over 200 proposals came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ecifically, Lawrence is seeking Federation members "interested in serving as advisors to project team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ly, this is not new to the Federation, and in fact several ESIPs are already involved as proposers or consultants, thanks to Carol’s earlier eff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Funding for the selected projects will not be directly available from GEO; instead, GEO will attempt to match projects, particularly those focused on developing countries, with resource-providing organizations.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GEO will also connect project teams with organizations and advisors who can provide expertise on Earth observati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ow can the Federation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ederation partners are in an excellent position, because of their vast and wide ranging knowledge about Earth science data, to support this effort as advi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provides potential outlets for ESIPs to expand the uses of their data and services, not to speak of their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do believe if their is effort required to facilitate the use of ESIP member data/services, or if effort to advise becomes more substantial than casual, it is possible to request funding for these efforts, associated with the particular project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put the ESIP Federation name out there in a prominent organization, providing pertinent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 (not The)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if this makes sense, if y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it work that Carol others have done in soliciting this in the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te a cluster to discuss strategies on how to be maximize Federation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list of proposers:  Determine which are best matches to interested ESIPs and ESIP expertise; How can we support each project and perhaps even determine ways in which each project can be more successful, in both their goals and attracting fu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ll for proposals (CF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The Group on Earth Observations has issued a Call for Proposals (CFP) inviting organizations to propose or participate in projects that app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th observations to decision support activities. Managed by the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User Interface committees, this CFP seeks to promote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cal application of Earth observations for improved decision making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highlight specific examples of how Earth observations can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i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Key aim of the CFP are to support end users in developing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itted to applying Earth observations and to demonstrate the benefits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th observation applications to end users in these countries. The CFP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ks to identify individuals and organizations interested in serving 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isors to project teams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7:53:47Z</dcterms:created>
  <dc:creator>Steve Kempler</dc:creator>
  <dc:description/>
  <dc:language>en-US</dc:language>
  <cp:lastModifiedBy>Steve Kempler</cp:lastModifiedBy>
  <dcterms:modified xsi:type="dcterms:W3CDTF">2010-03-03T22:38:19Z</dcterms:modified>
  <cp:revision>3</cp:revision>
  <dc:subject/>
  <dc:title>Seeking Advisors for GEO Applications Proposals Talking Points</dc:title>
</cp:coreProperties>
</file>